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0B1-7418-47F4-B1DC-D8C0D3E1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3A70-0983-48F5-BFBE-29CEC72A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FE4-3696-4C7E-ACD0-7D4AF475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4DA2-E846-4E50-9AAC-0EC876BA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6CF-75A2-435F-88FD-E85D0CF7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079-D9F4-4725-A9D9-150C4EBA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00F7-32BC-473D-9A6A-146ED263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FD3-843F-47FA-9F21-F579795F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C5D1-32B5-4F4B-9F91-AF4099B6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8CB-2AA2-47C8-B361-E82FC085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F24-4FFA-41D1-A984-B0880AC1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1F9-78E8-4BED-8B91-45C0115A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7A40-F7E2-486A-8966-785D202AD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89000"/>
            <a:ext cx="165564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2 5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3 5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4 5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3 6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0720" y="404640"/>
            <a:ext cx="28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3440" y="836640"/>
            <a:ext cx="4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52000" y="4508640"/>
            <a:ext cx="1006560" cy="520200"/>
            <a:chOff x="252000" y="4508640"/>
            <a:chExt cx="1006560" cy="520200"/>
          </a:xfrm>
        </p:grpSpPr>
        <p:sp>
          <p:nvSpPr>
            <p:cNvPr id="45" name=""/>
            <p:cNvSpPr/>
            <p:nvPr/>
          </p:nvSpPr>
          <p:spPr>
            <a:xfrm>
              <a:off x="252000" y="4508640"/>
              <a:ext cx="28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8280" y="5020560"/>
              <a:ext cx="98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80720" y="1197000"/>
            <a:ext cx="1366920" cy="794520"/>
            <a:chOff x="180720" y="1197000"/>
            <a:chExt cx="1366920" cy="794520"/>
          </a:xfrm>
        </p:grpSpPr>
        <p:sp>
          <p:nvSpPr>
            <p:cNvPr id="48" name=""/>
            <p:cNvSpPr/>
            <p:nvPr/>
          </p:nvSpPr>
          <p:spPr>
            <a:xfrm>
              <a:off x="324000" y="1197000"/>
              <a:ext cx="12236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3 6 9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1 0 0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80720" y="1471320"/>
              <a:ext cx="1108080" cy="520200"/>
              <a:chOff x="180720" y="1471320"/>
              <a:chExt cx="1108080" cy="520200"/>
            </a:xfrm>
          </p:grpSpPr>
          <p:sp>
            <p:nvSpPr>
              <p:cNvPr id="50" name=""/>
              <p:cNvSpPr/>
              <p:nvPr/>
            </p:nvSpPr>
            <p:spPr>
              <a:xfrm>
                <a:off x="180720" y="1471320"/>
                <a:ext cx="284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09520" y="193176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" name=""/>
          <p:cNvGrpSpPr/>
          <p:nvPr/>
        </p:nvGrpSpPr>
        <p:grpSpPr>
          <a:xfrm>
            <a:off x="109440" y="2349360"/>
            <a:ext cx="1366920" cy="794520"/>
            <a:chOff x="109440" y="2349360"/>
            <a:chExt cx="1366920" cy="794520"/>
          </a:xfrm>
        </p:grpSpPr>
        <p:sp>
          <p:nvSpPr>
            <p:cNvPr id="53" name=""/>
            <p:cNvSpPr/>
            <p:nvPr/>
          </p:nvSpPr>
          <p:spPr>
            <a:xfrm>
              <a:off x="252720" y="2349360"/>
              <a:ext cx="12236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9 0 0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5 5 5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109440" y="2623680"/>
              <a:ext cx="1108080" cy="520200"/>
              <a:chOff x="109440" y="2623680"/>
              <a:chExt cx="1108080" cy="520200"/>
            </a:xfrm>
          </p:grpSpPr>
          <p:sp>
            <p:nvSpPr>
              <p:cNvPr id="55" name=""/>
              <p:cNvSpPr/>
              <p:nvPr/>
            </p:nvSpPr>
            <p:spPr>
              <a:xfrm>
                <a:off x="109440" y="2623680"/>
                <a:ext cx="284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8240" y="308412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109440" y="3357720"/>
            <a:ext cx="1366920" cy="794520"/>
            <a:chOff x="109440" y="3357720"/>
            <a:chExt cx="1366920" cy="794520"/>
          </a:xfrm>
        </p:grpSpPr>
        <p:sp>
          <p:nvSpPr>
            <p:cNvPr id="58" name=""/>
            <p:cNvSpPr/>
            <p:nvPr/>
          </p:nvSpPr>
          <p:spPr>
            <a:xfrm>
              <a:off x="252720" y="3357720"/>
              <a:ext cx="12236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5 2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6 9 3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09440" y="3632040"/>
              <a:ext cx="1108080" cy="520200"/>
              <a:chOff x="109440" y="3632040"/>
              <a:chExt cx="1108080" cy="520200"/>
            </a:xfrm>
          </p:grpSpPr>
          <p:sp>
            <p:nvSpPr>
              <p:cNvPr id="60" name=""/>
              <p:cNvSpPr/>
              <p:nvPr/>
            </p:nvSpPr>
            <p:spPr>
              <a:xfrm>
                <a:off x="109440" y="3632040"/>
                <a:ext cx="284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38240" y="409248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"/>
          <p:cNvGrpSpPr/>
          <p:nvPr/>
        </p:nvGrpSpPr>
        <p:grpSpPr>
          <a:xfrm>
            <a:off x="180720" y="5373720"/>
            <a:ext cx="1366920" cy="794520"/>
            <a:chOff x="180720" y="5373720"/>
            <a:chExt cx="1366920" cy="794520"/>
          </a:xfrm>
        </p:grpSpPr>
        <p:sp>
          <p:nvSpPr>
            <p:cNvPr id="63" name=""/>
            <p:cNvSpPr/>
            <p:nvPr/>
          </p:nvSpPr>
          <p:spPr>
            <a:xfrm>
              <a:off x="324000" y="5373720"/>
              <a:ext cx="12236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2 8 9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6 0 0 9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180720" y="5648040"/>
              <a:ext cx="1108080" cy="520200"/>
              <a:chOff x="180720" y="5648040"/>
              <a:chExt cx="1108080" cy="520200"/>
            </a:xfrm>
          </p:grpSpPr>
          <p:sp>
            <p:nvSpPr>
              <p:cNvPr id="65" name=""/>
              <p:cNvSpPr/>
              <p:nvPr/>
            </p:nvSpPr>
            <p:spPr>
              <a:xfrm>
                <a:off x="180720" y="5648040"/>
                <a:ext cx="284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09520" y="610848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"/>
          <p:cNvSpPr/>
          <p:nvPr/>
        </p:nvSpPr>
        <p:spPr>
          <a:xfrm>
            <a:off x="1620720" y="40464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73080" y="836640"/>
            <a:ext cx="4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20720" y="1197000"/>
            <a:ext cx="1366920" cy="794520"/>
            <a:chOff x="1620720" y="1197000"/>
            <a:chExt cx="1366920" cy="794520"/>
          </a:xfrm>
        </p:grpSpPr>
        <p:sp>
          <p:nvSpPr>
            <p:cNvPr id="70" name=""/>
            <p:cNvSpPr/>
            <p:nvPr/>
          </p:nvSpPr>
          <p:spPr>
            <a:xfrm>
              <a:off x="1764000" y="1197000"/>
              <a:ext cx="12236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3 6 9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1 0 0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620720" y="1471320"/>
              <a:ext cx="1108080" cy="520200"/>
              <a:chOff x="1620720" y="1471320"/>
              <a:chExt cx="1108080" cy="520200"/>
            </a:xfrm>
          </p:grpSpPr>
          <p:sp>
            <p:nvSpPr>
              <p:cNvPr id="72" name=""/>
              <p:cNvSpPr/>
              <p:nvPr/>
            </p:nvSpPr>
            <p:spPr>
              <a:xfrm>
                <a:off x="1620720" y="1471320"/>
                <a:ext cx="240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49520" y="193176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1549080" y="2349360"/>
            <a:ext cx="1366920" cy="794520"/>
            <a:chOff x="1549080" y="2349360"/>
            <a:chExt cx="1366920" cy="794520"/>
          </a:xfrm>
        </p:grpSpPr>
        <p:sp>
          <p:nvSpPr>
            <p:cNvPr id="75" name=""/>
            <p:cNvSpPr/>
            <p:nvPr/>
          </p:nvSpPr>
          <p:spPr>
            <a:xfrm>
              <a:off x="1692360" y="2349360"/>
              <a:ext cx="12236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9 0 0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5 5 5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1549080" y="2623680"/>
              <a:ext cx="1108080" cy="520200"/>
              <a:chOff x="1549080" y="2623680"/>
              <a:chExt cx="1108080" cy="520200"/>
            </a:xfrm>
          </p:grpSpPr>
          <p:sp>
            <p:nvSpPr>
              <p:cNvPr id="77" name=""/>
              <p:cNvSpPr/>
              <p:nvPr/>
            </p:nvSpPr>
            <p:spPr>
              <a:xfrm>
                <a:off x="1549080" y="2623680"/>
                <a:ext cx="240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577880" y="308412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1549080" y="3357720"/>
            <a:ext cx="1366920" cy="794520"/>
            <a:chOff x="1549080" y="3357720"/>
            <a:chExt cx="1366920" cy="794520"/>
          </a:xfrm>
        </p:grpSpPr>
        <p:sp>
          <p:nvSpPr>
            <p:cNvPr id="80" name=""/>
            <p:cNvSpPr/>
            <p:nvPr/>
          </p:nvSpPr>
          <p:spPr>
            <a:xfrm>
              <a:off x="1692360" y="3357720"/>
              <a:ext cx="12236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5 2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2 9 3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549080" y="3632040"/>
              <a:ext cx="1108080" cy="520200"/>
              <a:chOff x="1549080" y="3632040"/>
              <a:chExt cx="1108080" cy="520200"/>
            </a:xfrm>
          </p:grpSpPr>
          <p:sp>
            <p:nvSpPr>
              <p:cNvPr id="82" name=""/>
              <p:cNvSpPr/>
              <p:nvPr/>
            </p:nvSpPr>
            <p:spPr>
              <a:xfrm>
                <a:off x="1549080" y="3632040"/>
                <a:ext cx="240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577880" y="409248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1818000" y="6516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8 9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4 7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92360" y="4437000"/>
            <a:ext cx="94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 0 0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5 1 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77800" y="4508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63640" y="5013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5445000"/>
            <a:ext cx="94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5 0 0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 9 9 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77800" y="5516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602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87800" y="136440"/>
            <a:ext cx="3771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cribe las cantidades con le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7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cribe las cantidades con nu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il doscientos u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ovecientos sesenta y sie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inco mil quini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ueve mil ciento veinticua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is mil seiscientos setenta y sie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7:06:56Z</dcterms:created>
  <dc:creator>Usuario</dc:creator>
  <dc:description/>
  <dc:language>en-US</dc:language>
  <cp:lastModifiedBy>Usuario</cp:lastModifiedBy>
  <dcterms:modified xsi:type="dcterms:W3CDTF">2008-01-25T17:40:12Z</dcterms:modified>
  <cp:revision>2</cp:revision>
  <dc:subject/>
  <dc:title>Diapositiva 1</dc:title>
</cp:coreProperties>
</file>